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697-310E-496F-A89B-09D9E093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61C-C1B7-4B46-9056-406E84C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127-4E8E-47C3-85AC-DF249378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A4C-37D9-44F3-9FCF-41CBCE60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293-85D4-47F1-BB8E-BF70000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D58-ADCF-4E0A-A3A8-0131F426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372-A959-4771-90C4-7BCF417B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BE4-518A-43CE-B853-ED01E71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474-8F5E-43CD-8888-ECAC6C79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092-1683-44F5-B9CD-84065FE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B22-A7E4-4995-8393-D26382E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ADE-74C9-464C-B9A4-FE35E48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EE9-9070-4A2A-9053-E41D427099A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Impact Of Natural Hazard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 Vs 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hazards will affect More Economically Developed Countries (MEDC's)in a differing way to those that occur in Less Economically Developed Countries(LEDC'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ealth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C's have the medical resources and money to quickly get appropriate aid to areas after a natural disa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C's often have to rely on aid from overseas as their health system, which is inadequ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verseas aid takes time to arrive, which could mean far more casual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mergency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EDC's who have a volcanic or earthquake risk, such as Japan and New Zealand, there are well thought out emergency procedur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actices in schools and places of work mean that people know what to do it the event of a natural disast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Government's and military have special emergency plans to help with the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ten LEDC's do not have these emergency plans, and so (as seen in TURKEY) far more damage can be done before the emergency services reach the stricken are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uilding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untries such as Japan and the United States have been at the fore front of developing buildings that have more chance of resisting an earthquak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 houses in San Francisco are made of wood, to make them more flexible and allow them to move with the quak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r skyscrapers are built with flexible foundations, which literally allow them to sway during a quake, rather than being rigid and falling dow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countries in areas prone to natural hazards have building codes to say where they can and cannot build, and how high the buildings can b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uilding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w Zealand is a good example of where this occu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DC's don't tend to have the technology available or money to pay for it, and soften their buildings are very susceptible to earthquak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example was the Armenian earthquake in 1988, which was 0.1 less on the Richter scale than Kobe, but killed 20,000 more peop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the Armenian houses were built of stone and so collapsed instan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cienti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s work throughout the world, trying to predict earthquakes and volcano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far they have found it very difficult to predict earthquakes, although scientists monitoring the San Andreas Fault in California have planted a huge number of seismographs in the ground to try to detect even the faintest of tremo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lcanoes generally are easier to predict, although the specific time of the eruption is not so easy to d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cientific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cientists can measure changes within the mountain that helps them to predict that the volcano is going to erup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usually allows the Local Authorities sufficient time to evacuate people from the danger area (as seen at both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Mt. St. Helen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Mt. Pinatubo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they still find it very difficult to accurately predict the size of the eruption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EDC's do tend to have more investment for this type of research and development than LEDC'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co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C's tend to be able to recover quickly from a natural disaster, due to having the investment and technology needed to return the area to as good as new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LEDC's often have to rely on aid from overseas, this quick recovery is often impossible for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4:52:53Z</dcterms:created>
  <dc:creator>Dell_02</dc:creator>
  <dc:description/>
  <dc:language>en-US</dc:language>
  <cp:lastModifiedBy>Dell_02</cp:lastModifiedBy>
  <dcterms:modified xsi:type="dcterms:W3CDTF">2011-01-26T15:01:02Z</dcterms:modified>
  <cp:revision>1</cp:revision>
  <dc:subject/>
  <dc:title>Impact Of Natural Hazards</dc:title>
</cp:coreProperties>
</file>